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F9A7-0565-41CD-A197-F561D1FF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47A9-AF8C-43A9-82A9-3BE41F7F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55E4-BC39-4F4C-A389-19B66FA3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7A46-D40B-451E-BEE4-6A117634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A3D-80EA-47F6-9E98-6003622B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6658-5C0A-4BAA-BEE9-451E755C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BD6D-6CA5-4B16-B952-FE819D45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7AF4-4A5E-4028-884E-AA8B3210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46CC-89E7-42DC-8A9F-C33E324D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EBCF-B879-430E-9FAB-104981EA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2CEB-5E3A-401F-80A5-0EDEDFB7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7531-FD64-4DFA-ADC5-7B366F8E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74f"/>
            </a:gs>
            <a:gs pos="100000">
              <a:srgbClr val="66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E8C4-58B0-443D-BC97-C04EB8C241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90;&#1088;&#1086;&#1089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-5295240"/>
            <a:ext cx="152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9" descr="DSC05381"/>
          <p:cNvPicPr/>
          <p:nvPr/>
        </p:nvPicPr>
        <p:blipFill>
          <a:blip r:embed="rId1"/>
          <a:stretch/>
        </p:blipFill>
        <p:spPr>
          <a:xfrm rot="399000">
            <a:off x="4557600" y="31860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DSC05384"/>
          <p:cNvPicPr/>
          <p:nvPr/>
        </p:nvPicPr>
        <p:blipFill>
          <a:blip r:embed="rId2"/>
          <a:stretch/>
        </p:blipFill>
        <p:spPr>
          <a:xfrm>
            <a:off x="1447920" y="3352680"/>
            <a:ext cx="2516040" cy="3353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DSC05411"/>
          <p:cNvPicPr/>
          <p:nvPr/>
        </p:nvPicPr>
        <p:blipFill>
          <a:blip r:embed="rId3"/>
          <a:stretch/>
        </p:blipFill>
        <p:spPr>
          <a:xfrm rot="20846400">
            <a:off x="317520" y="5472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DSC05363"/>
          <p:cNvPicPr/>
          <p:nvPr/>
        </p:nvPicPr>
        <p:blipFill>
          <a:blip r:embed="rId4"/>
          <a:stretch/>
        </p:blipFill>
        <p:spPr>
          <a:xfrm rot="325800">
            <a:off x="4257360" y="351432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10800000">
            <a:off x="4419000" y="3786120"/>
            <a:ext cx="75960" cy="1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нга- это мальчик, подросток, обучающийся морскому делу и исполняющий обязанности 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атрос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некоторых флотах — младший матрос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(ЙУ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Ю, ю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ЮНГА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ЮЛА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ЮБКА</a:t>
            </a:r>
            <a:br>
              <a:rPr sz="7200"/>
            </a:b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Ю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Л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КЛЮВ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УРЮК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ЛЮК</a:t>
            </a:r>
            <a:br>
              <a:rPr sz="8800"/>
            </a:b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КРЮ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11"/>
          <p:cNvSpPr/>
          <p:nvPr/>
        </p:nvSpPr>
        <p:spPr>
          <a:xfrm>
            <a:off x="2438280" y="1828800"/>
            <a:ext cx="914400" cy="838080"/>
          </a:xfrm>
          <a:prstGeom prst="flowChartProcess">
            <a:avLst/>
          </a:prstGeom>
          <a:gradFill rotWithShape="0">
            <a:gsLst>
              <a:gs pos="0">
                <a:srgbClr val="99cc00"/>
              </a:gs>
              <a:gs pos="100000">
                <a:srgbClr val="b82108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89432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0477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ЮРТ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4191120" y="1828800"/>
            <a:ext cx="914400" cy="838080"/>
          </a:xfrm>
          <a:prstGeom prst="flowChartProcess">
            <a:avLst/>
          </a:prstGeom>
          <a:solidFill>
            <a:srgbClr val="190d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5105520" y="1828800"/>
            <a:ext cx="914400" cy="838080"/>
          </a:xfrm>
          <a:prstGeom prst="flowChartProcess">
            <a:avLst/>
          </a:prstGeom>
          <a:solidFill>
            <a:srgbClr val="b821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2895480" y="1828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 flipV="1">
            <a:off x="28954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2895480" y="2209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2895480" y="1981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2895480" y="1905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4"/>
          <p:cNvSpPr/>
          <p:nvPr/>
        </p:nvSpPr>
        <p:spPr>
          <a:xfrm>
            <a:off x="3352680" y="1828800"/>
            <a:ext cx="914400" cy="838080"/>
          </a:xfrm>
          <a:prstGeom prst="flowChartProcess">
            <a:avLst/>
          </a:prstGeom>
          <a:solidFill>
            <a:srgbClr val="190d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__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__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а 2 из 145624"/>
          <p:cNvPicPr/>
          <p:nvPr/>
        </p:nvPicPr>
        <p:blipFill>
          <a:blip r:embed="rId1"/>
          <a:stretch/>
        </p:blipFill>
        <p:spPr>
          <a:xfrm>
            <a:off x="533520" y="2590920"/>
            <a:ext cx="2797200" cy="3638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Картинка 8 из 99289"/>
          <p:cNvPicPr/>
          <p:nvPr/>
        </p:nvPicPr>
        <p:blipFill>
          <a:blip r:embed="rId2"/>
          <a:stretch/>
        </p:blipFill>
        <p:spPr>
          <a:xfrm>
            <a:off x="5715000" y="304920"/>
            <a:ext cx="3124080" cy="27939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08:24:50Z</dcterms:created>
  <dc:creator>1</dc:creator>
  <dc:description/>
  <dc:language>en-US</dc:language>
  <cp:lastModifiedBy>gor</cp:lastModifiedBy>
  <dcterms:modified xsi:type="dcterms:W3CDTF">2012-03-10T05:25:2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